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D79-B34F-4E92-9FA9-20DE3D90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6F0-5FD3-42A0-9FCA-4188D174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9987-4DF7-4568-A1F9-EA3F45A6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6B3-0D56-444B-A0F6-6846C844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582-14AD-4B60-98FB-53B23207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373-4ECE-47E3-871F-F926B675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FF9F-8641-4A90-B454-1917481F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46B-EF94-42DA-90B8-B1BAD9BF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10B-EFC7-4AD8-82ED-381E233A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094-190D-4863-B40C-E0503EE0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6B3-A36D-4182-A1E3-E9B3F3E6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2E34-5D70-42FD-A1C5-04DA8719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C2CC-975B-4B73-9C47-1437AA76F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6360" y="476280"/>
            <a:ext cx="918036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20:29:08Z</dcterms:created>
  <dc:creator>Betsan Jones</dc:creator>
  <dc:description/>
  <dc:language>en-US</dc:language>
  <cp:lastModifiedBy>Betsan Jones</cp:lastModifiedBy>
  <dcterms:modified xsi:type="dcterms:W3CDTF">2009-02-01T20:29:42Z</dcterms:modified>
  <cp:revision>1</cp:revision>
  <dc:subject/>
  <dc:title>Slide 1</dc:title>
</cp:coreProperties>
</file>